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3BD-4656-4EF5-AA31-C9F15531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4A5-2C24-4789-8F63-6EDAE170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ACA-F15E-4EC8-AC31-CC612EE0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DA2-B0E9-4E95-A47B-15DC67C1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A07-0615-4800-8F23-6D1F41EA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552-30BD-409D-A62B-C016556A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D19-55F6-4A14-9D72-5F8BBB0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B38-D0C3-4F50-A299-8B48977A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1EE-99A2-4280-A168-BC10AC7A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C7F-49F9-4CEA-9A5E-36F77978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CEF-C295-44AB-B0C9-2F670B8D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E23-D924-48B6-AF4E-843C712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221-37E5-44B7-BF25-1088D55FF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5545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Congresul Spiritualităţii Româneşti: Lucrările în plen – Casa de Cultură a Studenţilor Alba Iu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„Cine va păzi clopoţeii?” – intrare liberă pentru copii – Teatrul de Păpuşi „Prichindel” Alba Iulia (sala Teatrul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d60093"/>
                </a:solidFill>
                <a:latin typeface="Arial"/>
              </a:rPr>
              <a:t>Lansarea volumului „Autobiografia generalului Vasile Barbu, fost comandant adjunct al ‘Gărzilor Naţionale’ de la Alba Iulia din 1 Decembrie 1918, ca izvor istoric (1908-1942)”, realizat de Gabriela Mircea şi Florin Cristian Bota – Sala Unir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ongresul Spiritualităţii Româneşti: Vernisajul expoziţiei „Unirea lui Mihai Viteazul - 410 ani de la asasinarea Voievodului” – Hotel Transilv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00  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Vernisajul expoziţie de artă Ovidiu Platon, Fidias Vasquez, Adelina Marcu – Spaţiile R.Y.M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549360"/>
            <a:ext cx="62233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ba Iulia-program 29 noiembrie 201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006800">
            <a:off x="6516360" y="1628640"/>
            <a:ext cx="1944720" cy="180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3789360"/>
            <a:ext cx="2808360" cy="26640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154400">
            <a:off x="6516000" y="4868640"/>
            <a:ext cx="23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 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I REGRE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i care vor veni în această zi vor beneficia şi de mâncare gratuită din partea Primăriei !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9:22:50Z</dcterms:created>
  <dc:creator> </dc:creator>
  <dc:description/>
  <dc:language>en-US</dc:language>
  <cp:lastModifiedBy> </cp:lastModifiedBy>
  <dcterms:modified xsi:type="dcterms:W3CDTF">2011-11-29T09:48:09Z</dcterms:modified>
  <cp:revision>2</cp:revision>
  <dc:subject/>
  <dc:title>Diapozitivul 1</dc:title>
</cp:coreProperties>
</file>